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5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DE565-56F6-42EB-90EC-AD742E1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291F-4C95-4F73-A569-5A9A4FE3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3A13-8FB0-4212-9684-81ED8D64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6D76-E4C5-42AA-BDF2-A11EE16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1D49E-EB47-4264-943D-E58A6D0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57F5-B108-4F28-8F57-031D536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6DE5-CEDA-4E45-920B-E378C874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F7EA-212F-4E8D-9355-BDBCDCC2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EA25-1534-4DB0-9896-1CE59220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2D616-43D6-403C-BB23-FE6E82F5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2F52F-7467-4EE1-BF16-BA22EAEB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CE28-6EBD-49EE-8C73-4B364E6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B0646-5D6B-4F13-8ADD-A1B19F7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F7FFC-9B51-4BCB-AFF1-BE923BD9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130AF-2555-47A9-9EBD-926A9A12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CCF68-569E-4635-AFD2-966E56F7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34BF-9197-4747-AE96-992A734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A21E4-C73E-450C-9007-27C86C09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98086-1893-472B-BD58-47CEBA1B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AA9D-AF3F-4D7F-B990-FC1421B1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F1251-B12B-47A3-A412-B824261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5D576-2867-4F2C-8E2F-65B9687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9A03A-9648-4CC5-B148-CB2F7B0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3ECA1-E595-4784-B1EB-3A725C6C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F882-5772-456A-BCB2-161A650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453E1-194A-4CA9-9F2A-F1D0433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7717E-950C-44F8-ABE1-903C880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8DB77-C034-489E-9109-EF7F0B9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F3AAB-0CDF-48FC-A995-3279544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F161D-E088-4816-BEB6-7AAA13D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15D-86AE-4AD6-BF86-FA6DC7F0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1FF5A-7A00-41D1-AEB6-D988730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F899-4D47-4766-B933-D67219D4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FC9D0-9DF4-4410-86E0-4F1F4AB9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C8C75-F578-4993-912E-9403D1FB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D3E92-2DDA-4D6F-8FD4-B456952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5AEB-684B-4A66-B0A6-2D234590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9B46-30F8-4ECD-8AD3-6EF59560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3DE3A-3F3E-4A4A-88EF-360CEE7E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CD423-8E79-471B-BF5B-3F05CE89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87CC3-53DE-4262-9E4A-64E374E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11E-4B07-4AE3-BCFD-01B0E4FD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1048D-A507-4E58-BE9D-1DEF6D9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5BF78-6FDE-4993-BCB4-C4CCEA1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C7E4E-B6B7-460D-B039-5EF8824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5AEEF-DD72-480A-8516-95A84C1E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4048-B18E-492C-BCC5-EEF8F80D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9F73D-F958-4594-8806-41B345D3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ACB9D-4176-4921-B1DB-D7926B5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6ECF9-5916-4F90-95F0-BCC295BA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43C38-C915-4A22-AEEF-7D107A4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AE8E-3438-4FDD-98ED-F63FF5F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FE3-7439-4DF0-B04E-81D29CAE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B84FF-9872-41ED-BB4A-114F1C8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440AF-AF57-4736-B0E6-D1A8B25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017EA-466F-4920-990B-6870A89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68771-4BA9-4669-A2F9-494872C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B2B10-96D7-4EC1-ADE8-0149156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2BA2C-28B6-4E3A-8373-A948B5AD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B1EA6-AD74-48BF-A857-2AB2B19A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F63-55C9-4613-A2C8-4EA2AB3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A80-EF92-4188-B391-2F69F974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46-458E-41CC-8000-6DBD451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F2B-58E8-4096-A3A8-F633EB6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DD6-BBBC-4C13-AEEE-7E875AB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540-4B36-4543-8C2B-1BBFD997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FB-507C-4AF4-A44B-48E3D13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BF6-9E4B-4F15-9D43-C5812C52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322-A8D0-4A26-8866-5520A251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036D-D969-46D5-AB67-F4B82F6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B7C7-6B4B-4736-A855-57C54F1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D76B-6ABB-4DA2-B3C4-07F19F55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0690-532F-446A-A968-62520EC6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CDA3-996C-4972-9AE2-F373F4ED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B648-A428-4920-A9FE-4118D9A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35DB-ACA2-42D2-A6BD-2D1365D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796F-5FF3-4536-8717-EB8FA35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8474-C51D-4EEB-A03D-20BC2BC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EE07-B0D9-4324-B371-F53E4604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5584-09FE-40FD-813A-65FD936E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4907-DF66-4E14-B59D-9685D0A5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FFD1-BB4F-4C45-9728-78CA38BB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94E0-B4EE-46D5-8CA4-1B0FA06C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877A-9150-464C-A474-ACE1FE4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54A8-99A4-4AF3-B03C-5F84A27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6624-F1B1-4E3A-A08F-942681E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BF33-66D0-4C32-B440-90E06D9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AA65-2B3A-4A10-BDC4-83A096A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6030-9A44-4081-8B3C-7274166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3041-165C-4139-84C1-9AB104B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3588-9C44-4073-A35E-3C46D24D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B92B-41C1-431B-AF89-29C1048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2C99-E531-498E-BFA1-D6FB39ED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EF83-522D-41A4-BA8C-6E645B21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79BF-D9EF-4D8B-AB3C-046F716A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EEB9-4AFC-485A-8528-B9E5206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4A4F-2275-4EB9-8AE0-1210F5C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7786-EDEF-4C56-BDD6-97BB783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B73D-1124-4F08-B9AE-27C8F0B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F11A-A3CB-4A5D-BFF9-87F382A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7BBE-900C-4937-BCBE-63B98CA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0061-F9CF-4925-BCBE-CE0B0FE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69B6D-C7BF-4D98-9FBE-06D88FE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B5F2-02CA-4AEA-A363-B03FCE8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1243-1008-4389-9197-9BC3AABF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1C04-B097-4655-9868-F08DE03E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0E79-9836-4E7F-B653-E90AB93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45EE-0C33-41AF-86CD-75D5778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32F4-355B-4381-BFBE-4693446D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E854-6459-4841-8559-4E150D1A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A4AB-B491-492B-8362-3846201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ED65-8240-40CD-9D86-312D7013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3A08-B842-4CEC-B567-2CAEA46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AF3F-5AD1-4A10-BC3F-1E3DB82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AC1F-D485-4F20-A16D-5CC5269E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8843-94DB-4320-A0A4-BE5C93A7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8DA0-03D6-4706-A193-AA029D1D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91FE-CB54-4236-8530-0B327669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4353D-F9E4-4C31-9FE7-E749982A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B3BCA-4C1A-42E0-8391-B1B199A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2A4F-2648-4DD7-8593-42EDEDC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C5B1-2B50-4CA3-B1CA-D220CAC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337E-8DBF-4E08-9A24-0DEA817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1364-2628-4A42-8203-CA213BB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A3F3-6E67-4FA8-96B9-B261D98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D567-A941-4F2B-86A7-39B94518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19D4-CB35-4124-BA78-6D798730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36EC-3812-497B-8441-B59D9412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58E3-569A-4D1C-BEA7-D0500E3D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8568-23A9-461C-B6D7-B66E654D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B724D-6B0D-4D30-9E2F-B8DE284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557A-C9FA-4E1B-82DC-9477657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1DC8-3517-4EA0-A11A-C10284D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F4EE-E624-4E71-9FA2-B8C9FB5E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7B0A-985C-401F-BD40-3D0F590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E7508-33F2-4ECB-8463-54A5875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4422-14A6-4EE7-B01F-110A546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7DAA-801C-42C9-8169-B3AE9AE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7351-B360-42C9-AAF4-E2F4463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80BE1-6F81-4898-9E95-4E715FF3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330B9-64DF-4DC1-9B95-DD4E6783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ABEA-3C88-4350-9087-EFA86139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9109-8811-486F-813F-4918AF7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02A5-8F7E-4EB9-B908-1BED69E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4E3-D965-4A82-84EC-A45412A702A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C2D-335A-47F1-A9DA-5AA3DC6C25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296-C11B-4E58-BA92-42BF36845F0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C82-77A2-477F-8AA1-DCB015CBDAD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63A-E78C-4C19-91AE-EE691172374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DE3-4DF4-493E-BDB8-8B34C002245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AB1-EC70-4E88-A0F0-06E8428D5A2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9121-6001-4ED9-8860-F6BD2598080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E6A9-DFDB-4197-8EBF-6147B901AF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E54-DA42-4C31-AFCE-8F879BC534D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E09-F7AF-4AE5-AC34-C900CC6E3A3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2"/>
          <p:cNvSpPr/>
          <p:nvPr/>
        </p:nvSpPr>
        <p:spPr>
          <a:xfrm>
            <a:off x="398880" y="644364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urse info: www.staff.science.uu.nl/~telea001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DC7F-F887-474F-B7A5-C82E0831543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jpeg"/><Relationship Id="rId30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ultimedia Retrieval Module 0</a:t>
            </a:r>
            <a:br>
              <a:rPr sz="2300"/>
            </a:br>
            <a:r>
              <a:rPr b="1" i="1" lang="en-US" sz="2300" spc="-1" strike="noStrike">
                <a:solidFill>
                  <a:srgbClr val="7575d1"/>
                </a:solidFill>
                <a:latin typeface="Trebuchet MS"/>
              </a:rPr>
              <a:t>Course Organiza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2894400" y="52689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dr. Alexandru (Alex) Te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4"/>
          <p:cNvSpPr/>
          <p:nvPr/>
        </p:nvSpPr>
        <p:spPr>
          <a:xfrm>
            <a:off x="2527920" y="5800680"/>
            <a:ext cx="428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Information and Computing Sc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recht University, 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024"/>
          <p:cNvGraphicFramePr/>
          <p:nvPr/>
        </p:nvGraphicFramePr>
        <p:xfrm>
          <a:off x="4952880" y="3629160"/>
          <a:ext cx="11034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629160"/>
                    <a:ext cx="1103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1025"/>
          <p:cNvGraphicFramePr/>
          <p:nvPr/>
        </p:nvGraphicFramePr>
        <p:xfrm>
          <a:off x="2743200" y="3629160"/>
          <a:ext cx="21319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629160"/>
                    <a:ext cx="2131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026"/>
          <p:cNvGraphicFramePr/>
          <p:nvPr/>
        </p:nvGraphicFramePr>
        <p:xfrm>
          <a:off x="5334120" y="2104920"/>
          <a:ext cx="1458720" cy="14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104920"/>
                    <a:ext cx="1458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1027"/>
          <p:cNvGraphicFramePr/>
          <p:nvPr/>
        </p:nvGraphicFramePr>
        <p:xfrm>
          <a:off x="3809880" y="2104920"/>
          <a:ext cx="1446480" cy="146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104920"/>
                    <a:ext cx="1446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1028"/>
          <p:cNvGraphicFramePr/>
          <p:nvPr/>
        </p:nvGraphicFramePr>
        <p:xfrm>
          <a:off x="2211480" y="2108160"/>
          <a:ext cx="1519200" cy="14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11480" y="2108160"/>
                    <a:ext cx="1519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Additional Remark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4"/>
          <p:cNvSpPr/>
          <p:nvPr/>
        </p:nvSpPr>
        <p:spPr>
          <a:xfrm>
            <a:off x="228600" y="9144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Competences assumed you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need to be abl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ell)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r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ssu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bug your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should be able to describe a problem/ques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“it does not work, what to do?” is not a good examp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final report should be at the level of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white paper / tech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structured, complete, coherent, with clear math notations,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you do by graphs, charts, snapsh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Additional Remark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4"/>
          <p:cNvSpPr/>
          <p:nvPr/>
        </p:nvSpPr>
        <p:spPr>
          <a:xfrm>
            <a:off x="304920" y="655560"/>
            <a:ext cx="84582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e pres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 g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back on how to embed theory in the assignm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global progress of assignment will be also embedd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e proac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ring lectur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incremental assign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ctur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ad all information on cou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/scan course sli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v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 draft list of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Watch the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you prog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blockers ASAP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Last but not least: Have fu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4"/>
          <p:cNvSpPr/>
          <p:nvPr/>
        </p:nvSpPr>
        <p:spPr>
          <a:xfrm>
            <a:off x="457200" y="30492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Introduction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Who am 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D in scientific visualization (TU Eindhoven,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professor in visualization (TU Eindhoven, 2000-200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or in multiscale visual analytics (RUG, 2007-20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or in visual data analytics (UU, since 20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 PhD students, 70+ MSc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: visual analytics, shape analytics, machin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1" descr=""/>
          <p:cNvPicPr/>
          <p:nvPr/>
        </p:nvPicPr>
        <p:blipFill>
          <a:blip r:embed="rId1"/>
          <a:stretch/>
        </p:blipFill>
        <p:spPr>
          <a:xfrm>
            <a:off x="6400800" y="4309920"/>
            <a:ext cx="1211400" cy="158616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2"/>
          <p:cNvSpPr/>
          <p:nvPr/>
        </p:nvSpPr>
        <p:spPr>
          <a:xfrm>
            <a:off x="6494400" y="589104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: Principles and Pract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K. Peters, 2008 /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1" descr=""/>
          <p:cNvPicPr/>
          <p:nvPr/>
        </p:nvPicPr>
        <p:blipFill>
          <a:blip r:embed="rId2"/>
          <a:stretch/>
        </p:blipFill>
        <p:spPr>
          <a:xfrm>
            <a:off x="7451640" y="2743200"/>
            <a:ext cx="1530360" cy="4446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2"/>
          <p:cNvSpPr/>
          <p:nvPr/>
        </p:nvSpPr>
        <p:spPr>
          <a:xfrm>
            <a:off x="7517520" y="31240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olidsourcei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6657840" y="1844640"/>
            <a:ext cx="240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taff.science.uu.nl/~telea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1684440" y="4305240"/>
            <a:ext cx="542880" cy="630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2284560" y="4305240"/>
            <a:ext cx="466560" cy="636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27440" y="4305240"/>
            <a:ext cx="484200" cy="638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"/>
          <p:cNvPicPr/>
          <p:nvPr/>
        </p:nvPicPr>
        <p:blipFill>
          <a:blip r:embed="rId6"/>
          <a:stretch/>
        </p:blipFill>
        <p:spPr>
          <a:xfrm>
            <a:off x="3378240" y="4305240"/>
            <a:ext cx="515880" cy="622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"/>
          <p:cNvPicPr/>
          <p:nvPr/>
        </p:nvPicPr>
        <p:blipFill>
          <a:blip r:embed="rId7"/>
          <a:stretch/>
        </p:blipFill>
        <p:spPr>
          <a:xfrm>
            <a:off x="3975120" y="4305240"/>
            <a:ext cx="493560" cy="620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"/>
          <p:cNvPicPr/>
          <p:nvPr/>
        </p:nvPicPr>
        <p:blipFill>
          <a:blip r:embed="rId8"/>
          <a:stretch/>
        </p:blipFill>
        <p:spPr>
          <a:xfrm>
            <a:off x="620640" y="5019840"/>
            <a:ext cx="416160" cy="626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"/>
          <p:cNvPicPr/>
          <p:nvPr/>
        </p:nvPicPr>
        <p:blipFill>
          <a:blip r:embed="rId9"/>
          <a:stretch/>
        </p:blipFill>
        <p:spPr>
          <a:xfrm>
            <a:off x="1042920" y="501984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2" descr=""/>
          <p:cNvPicPr/>
          <p:nvPr/>
        </p:nvPicPr>
        <p:blipFill>
          <a:blip r:embed="rId10"/>
          <a:stretch/>
        </p:blipFill>
        <p:spPr>
          <a:xfrm>
            <a:off x="1146240" y="4305240"/>
            <a:ext cx="477720" cy="62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4" descr=""/>
          <p:cNvPicPr/>
          <p:nvPr/>
        </p:nvPicPr>
        <p:blipFill>
          <a:blip r:embed="rId11"/>
          <a:stretch/>
        </p:blipFill>
        <p:spPr>
          <a:xfrm>
            <a:off x="1704960" y="5010120"/>
            <a:ext cx="496800" cy="630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" descr=""/>
          <p:cNvPicPr/>
          <p:nvPr/>
        </p:nvPicPr>
        <p:blipFill>
          <a:blip r:embed="rId12"/>
          <a:stretch/>
        </p:blipFill>
        <p:spPr>
          <a:xfrm>
            <a:off x="2286000" y="5019840"/>
            <a:ext cx="457200" cy="637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"/>
          <p:cNvPicPr/>
          <p:nvPr/>
        </p:nvPicPr>
        <p:blipFill>
          <a:blip r:embed="rId13"/>
          <a:stretch/>
        </p:blipFill>
        <p:spPr>
          <a:xfrm>
            <a:off x="2814480" y="5019840"/>
            <a:ext cx="505080" cy="620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14"/>
          <a:stretch/>
        </p:blipFill>
        <p:spPr>
          <a:xfrm>
            <a:off x="3390840" y="5019840"/>
            <a:ext cx="503280" cy="609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15"/>
          <a:stretch/>
        </p:blipFill>
        <p:spPr>
          <a:xfrm>
            <a:off x="3956040" y="5019840"/>
            <a:ext cx="509760" cy="609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16"/>
          <a:stretch/>
        </p:blipFill>
        <p:spPr>
          <a:xfrm>
            <a:off x="7689960" y="4305240"/>
            <a:ext cx="1301760" cy="1604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" descr=""/>
          <p:cNvPicPr/>
          <p:nvPr/>
        </p:nvPicPr>
        <p:blipFill>
          <a:blip r:embed="rId17"/>
          <a:stretch/>
        </p:blipFill>
        <p:spPr>
          <a:xfrm>
            <a:off x="619200" y="4307040"/>
            <a:ext cx="461880" cy="626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" descr=""/>
          <p:cNvPicPr/>
          <p:nvPr/>
        </p:nvPicPr>
        <p:blipFill>
          <a:blip r:embed="rId18"/>
          <a:stretch/>
        </p:blipFill>
        <p:spPr>
          <a:xfrm>
            <a:off x="620640" y="5705640"/>
            <a:ext cx="426960" cy="6094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19"/>
          <a:stretch/>
        </p:blipFill>
        <p:spPr>
          <a:xfrm>
            <a:off x="1130400" y="5705640"/>
            <a:ext cx="485640" cy="609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"/>
          <p:cNvPicPr/>
          <p:nvPr/>
        </p:nvPicPr>
        <p:blipFill>
          <a:blip r:embed="rId20"/>
          <a:stretch/>
        </p:blipFill>
        <p:spPr>
          <a:xfrm>
            <a:off x="1725480" y="5705640"/>
            <a:ext cx="468360" cy="609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0" descr=""/>
          <p:cNvPicPr/>
          <p:nvPr/>
        </p:nvPicPr>
        <p:blipFill>
          <a:blip r:embed="rId21"/>
          <a:stretch/>
        </p:blipFill>
        <p:spPr>
          <a:xfrm>
            <a:off x="2284560" y="5711760"/>
            <a:ext cx="457200" cy="603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1" descr=""/>
          <p:cNvPicPr/>
          <p:nvPr/>
        </p:nvPicPr>
        <p:blipFill>
          <a:blip r:embed="rId22"/>
          <a:stretch/>
        </p:blipFill>
        <p:spPr>
          <a:xfrm>
            <a:off x="2806560" y="5705640"/>
            <a:ext cx="513000" cy="6094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"/>
          <p:cNvPicPr/>
          <p:nvPr/>
        </p:nvPicPr>
        <p:blipFill>
          <a:blip r:embed="rId23"/>
          <a:stretch/>
        </p:blipFill>
        <p:spPr>
          <a:xfrm>
            <a:off x="3386160" y="5705640"/>
            <a:ext cx="507960" cy="609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"/>
          <p:cNvPicPr/>
          <p:nvPr/>
        </p:nvPicPr>
        <p:blipFill>
          <a:blip r:embed="rId24"/>
          <a:stretch/>
        </p:blipFill>
        <p:spPr>
          <a:xfrm>
            <a:off x="3968640" y="5705640"/>
            <a:ext cx="505080" cy="609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"/>
          <p:cNvPicPr/>
          <p:nvPr/>
        </p:nvPicPr>
        <p:blipFill>
          <a:blip r:embed="rId25"/>
          <a:stretch/>
        </p:blipFill>
        <p:spPr>
          <a:xfrm>
            <a:off x="4516560" y="4305240"/>
            <a:ext cx="498240" cy="628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6"/>
          <a:stretch/>
        </p:blipFill>
        <p:spPr>
          <a:xfrm>
            <a:off x="4527720" y="5030640"/>
            <a:ext cx="493560" cy="5954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27"/>
          <a:stretch/>
        </p:blipFill>
        <p:spPr>
          <a:xfrm>
            <a:off x="4564080" y="5710320"/>
            <a:ext cx="442800" cy="614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28"/>
          <a:stretch/>
        </p:blipFill>
        <p:spPr>
          <a:xfrm>
            <a:off x="5057640" y="4314960"/>
            <a:ext cx="489240" cy="6253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2"/>
          <p:cNvSpPr/>
          <p:nvPr/>
        </p:nvSpPr>
        <p:spPr>
          <a:xfrm>
            <a:off x="1143000" y="571500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7"/>
          <p:cNvSpPr/>
          <p:nvPr/>
        </p:nvSpPr>
        <p:spPr>
          <a:xfrm>
            <a:off x="1752480" y="571500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8"/>
          <p:cNvSpPr/>
          <p:nvPr/>
        </p:nvSpPr>
        <p:spPr>
          <a:xfrm>
            <a:off x="2286000" y="571500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9"/>
          <p:cNvSpPr/>
          <p:nvPr/>
        </p:nvSpPr>
        <p:spPr>
          <a:xfrm>
            <a:off x="2819520" y="5715000"/>
            <a:ext cx="500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0"/>
          <p:cNvSpPr/>
          <p:nvPr/>
        </p:nvSpPr>
        <p:spPr>
          <a:xfrm>
            <a:off x="3397320" y="5715000"/>
            <a:ext cx="4856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1"/>
          <p:cNvSpPr/>
          <p:nvPr/>
        </p:nvSpPr>
        <p:spPr>
          <a:xfrm>
            <a:off x="3962520" y="5715000"/>
            <a:ext cx="5061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2"/>
          <p:cNvSpPr/>
          <p:nvPr/>
        </p:nvSpPr>
        <p:spPr>
          <a:xfrm>
            <a:off x="4564080" y="572292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3"/>
          <p:cNvSpPr/>
          <p:nvPr/>
        </p:nvSpPr>
        <p:spPr>
          <a:xfrm>
            <a:off x="4535640" y="431964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4"/>
          <p:cNvSpPr/>
          <p:nvPr/>
        </p:nvSpPr>
        <p:spPr>
          <a:xfrm>
            <a:off x="5081760" y="431172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5"/>
          <p:cNvSpPr/>
          <p:nvPr/>
        </p:nvSpPr>
        <p:spPr>
          <a:xfrm>
            <a:off x="4564080" y="5029200"/>
            <a:ext cx="457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5" descr="From Clipboard.jpg"/>
          <p:cNvPicPr/>
          <p:nvPr/>
        </p:nvPicPr>
        <p:blipFill>
          <a:blip r:embed="rId29"/>
          <a:stretch/>
        </p:blipFill>
        <p:spPr>
          <a:xfrm>
            <a:off x="7885080" y="333360"/>
            <a:ext cx="1108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14"/>
          <p:cNvSpPr/>
          <p:nvPr/>
        </p:nvSpPr>
        <p:spPr>
          <a:xfrm>
            <a:off x="457200" y="655560"/>
            <a:ext cx="845820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1" i="1" lang="en-US" sz="2300" spc="-1" strike="noStrike">
                <a:solidFill>
                  <a:srgbClr val="333399"/>
                </a:solidFill>
                <a:latin typeface="Arial"/>
              </a:rPr>
              <a:t>whom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 is this cour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der)graduate students in the MSc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to understand how Multimedia Retrieval (MR) systems wor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so they can build similar systems for custom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What you need to know </a:t>
            </a:r>
            <a:r>
              <a:rPr b="1" i="1" lang="en-US" sz="2300" spc="-1" strike="noStrike">
                <a:solidFill>
                  <a:srgbClr val="008000"/>
                </a:solidFill>
                <a:latin typeface="Arial"/>
              </a:rPr>
              <a:t>before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 in a mainstream language (e.g. C/C++, Python, 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compu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 are a high bonus 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What you will know </a:t>
            </a:r>
            <a:r>
              <a:rPr b="1" i="1" lang="en-US" sz="2300" spc="-1" strike="noStrike">
                <a:solidFill>
                  <a:srgbClr val="008000"/>
                </a:solidFill>
                <a:latin typeface="Arial"/>
              </a:rPr>
              <a:t>after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MR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techniq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assical and state-of-the-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a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go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system (design, usability, accuracy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unsolved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challen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R (waiting for you to work 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MR is a growing, exciting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o work 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4"/>
          <p:cNvSpPr/>
          <p:nvPr/>
        </p:nvSpPr>
        <p:spPr>
          <a:xfrm>
            <a:off x="228600" y="655560"/>
            <a:ext cx="84582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ourse Structure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lecture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nd illustrate theory, techniques, methodology,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etting: slides, demo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 from aud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Sel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world MR appl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taught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in groups (1..2 students)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s of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encou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, during 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group, from lecturer, upon submission of progres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Course Outlin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273960" y="949320"/>
            <a:ext cx="8457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1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2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 data represent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 to model media and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3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ow humans see media, so we know how to model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4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 to compute all those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5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ow to compare feature 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6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ow to measure the performance of a MR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7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 to speed up the retrieval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8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 to display results for users and system desig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odule 9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ow to write a good scientific report about MR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odule is not 1-to-1 to one le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4"/>
          <p:cNvSpPr/>
          <p:nvPr/>
        </p:nvSpPr>
        <p:spPr>
          <a:xfrm>
            <a:off x="457200" y="465120"/>
            <a:ext cx="84582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ourse Outline (detail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1: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Multimedia Retrieval (M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 pipeline expl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2: Data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represent 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s, attributes, sampling, interpolation, basic signal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3: Per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humans perceive 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ption limitations, illusions, Gestalt 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4: Feature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characterize MR data b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compute features for images, 2D shapes, 3D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4"/>
          <p:cNvSpPr/>
          <p:nvPr/>
        </p:nvSpPr>
        <p:spPr>
          <a:xfrm>
            <a:off x="457200" y="465120"/>
            <a:ext cx="845820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ourse Outline (detail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5: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compare MR items using their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and similarity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6: Eval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measure the quality of a M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centric and user-centric metrics, measuremen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7: Sca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build MR systems that scale for big data(b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ing, spatial search structures, dimensionality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8: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(visually) present MR data and MR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ality reduction plots, visual quality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Module 9: Reporting (optional/to be se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write a good technical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4"/>
          <p:cNvSpPr/>
          <p:nvPr/>
        </p:nvSpPr>
        <p:spPr>
          <a:xfrm>
            <a:off x="457200" y="4651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Mate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ourse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urse info i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datasets, tools, d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code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ng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tart reading early, this is a LOT of materi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From Clipboard.jpg"/>
          <p:cNvPicPr/>
          <p:nvPr/>
        </p:nvPicPr>
        <p:blipFill>
          <a:blip r:embed="rId1"/>
          <a:stretch/>
        </p:blipFill>
        <p:spPr>
          <a:xfrm>
            <a:off x="4457880" y="1752480"/>
            <a:ext cx="4559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14"/>
          <p:cNvSpPr/>
          <p:nvPr/>
        </p:nvSpPr>
        <p:spPr>
          <a:xfrm>
            <a:off x="457200" y="465120"/>
            <a:ext cx="845820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How you will be asses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</a:rPr>
              <a:t>Practical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Arial"/>
              </a:rPr>
              <a:t>Given a real-world 3D shape database, implement an interactive system for </a:t>
            </a:r>
            <a:br>
              <a:rPr sz="1800"/>
            </a:br>
            <a:r>
              <a:rPr b="0" i="1" lang="en-US" sz="1800" spc="-1" strike="noStrike">
                <a:solidFill>
                  <a:srgbClr val="7575d1"/>
                </a:solidFill>
                <a:latin typeface="Arial"/>
              </a:rPr>
              <a:t>retrieving shapes similar to a query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1. Technical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the design, operation, results, and evaluation of you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element for your final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2.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graded separately, but must work to pass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3. Final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 orally your MR system (ideally with a live de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questions from aud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Arial"/>
              </a:rPr>
              <a:t>Final grade: average of grades for 1 and 3 (both need to be pas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22:49Z</dcterms:created>
  <dc:creator>Ozan</dc:creator>
  <dc:description/>
  <dc:language>en-US</dc:language>
  <cp:lastModifiedBy>Alex Telea</cp:lastModifiedBy>
  <dcterms:modified xsi:type="dcterms:W3CDTF">2019-09-03T12:19:53Z</dcterms:modified>
  <cp:revision>496</cp:revision>
  <dc:subject/>
  <dc:title>Image-Based Edge Bundles: Simplified Visualization of Large Graphs  A. Telea and O. Ersoy </dc:title>
</cp:coreProperties>
</file>